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145-4C62-4AC7-86F8-72F3B18D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068-54DF-47B0-84EF-FDC533DB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00E-93E9-4194-B035-3FC31F1A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838-E75E-4FA2-A791-F5FA70FF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C2B-2152-42B1-B4DE-27ADD9DF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3FC-A76D-4E8F-9C2A-90B2CA7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0C6-A5CB-4AE9-A6D8-4E4BD42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B3C-CF90-4EE5-94D7-51BE6E5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2DF-2440-440A-B8AC-16071BCE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28E-4FA5-4F4D-A9EB-7075D55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5E6-05A1-42C2-A9B8-B8F36BB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EDF-6536-465B-9612-ADB60DF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D96A-B47B-4A8D-BE53-35ED0FAC4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b/Wikilabrador_jardi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9/9b/Domestic_cat_cropped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8/80/Yellow_finch_1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7/77/Guinea_1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3/Hamster_Ruso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c/c3/Phelsuma_l._laticauda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b/bd/Apodemus_sylvaticus_bosmuis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upload.wikimedia.org/wikipedia/commons/6/67/Rat_diabetic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e/Kini_iguana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pload.wikimedia.org/wikipedia/commons/3/34/Florida_Box_Turtle_Digon3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upload.wikimedia.org/wikipedia/commons/7/70/Sylvilagus_floridanus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en.wikipedia.org/wiki/File:HermitCrabs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Wikilabrador jard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0"/>
            <a:ext cx="4114800" cy="336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Domestic cat croppe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460680"/>
            <a:ext cx="4281480" cy="339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Yellow finch 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0"/>
            <a:ext cx="4190760" cy="334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Guinea 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19680" y="3614760"/>
            <a:ext cx="432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Hamster Rus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ile:Phelsuma l. laticaud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0"/>
            <a:ext cx="4267080" cy="347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Apodemus sylvaticus bosmui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Rat diabetic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Kini igua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6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Florida Box Turtle Digon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0492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Sylvilagus floridanu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390840"/>
            <a:ext cx="4114800" cy="346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812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733560" cy="342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Scarlet Macaw.jpg"/>
          <p:cNvPicPr/>
          <p:nvPr/>
        </p:nvPicPr>
        <p:blipFill>
          <a:blip r:embed="rId2"/>
          <a:stretch/>
        </p:blipFill>
        <p:spPr>
          <a:xfrm>
            <a:off x="114480" y="3886200"/>
            <a:ext cx="4381200" cy="227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Poecilotheria Regalis.jpg"/>
          <p:cNvPicPr/>
          <p:nvPr/>
        </p:nvPicPr>
        <p:blipFill>
          <a:blip r:embed="rId3"/>
          <a:stretch/>
        </p:blipFill>
        <p:spPr>
          <a:xfrm>
            <a:off x="4724280" y="144360"/>
            <a:ext cx="4343400" cy="32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Thamnophis elegans terrestris (1).jpg"/>
          <p:cNvPicPr/>
          <p:nvPr/>
        </p:nvPicPr>
        <p:blipFill>
          <a:blip r:embed="rId4"/>
          <a:stretch/>
        </p:blipFill>
        <p:spPr>
          <a:xfrm>
            <a:off x="4572000" y="3809880"/>
            <a:ext cx="45720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-152280"/>
            <a:ext cx="4495680" cy="347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76320" y="3505320"/>
            <a:ext cx="4572000" cy="311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419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1:33:15Z</dcterms:modified>
  <cp:revision>9</cp:revision>
  <dc:subject/>
  <dc:title>Slide 1</dc:title>
</cp:coreProperties>
</file>